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F7AF-1DD7-4910-A100-075C0AC9F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408A-16E0-43ED-81F3-800B80640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4D2F-BFC3-4E11-AFA0-7FC14B949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53BA-58A3-4086-97FB-EAF0267DC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D87D-FC35-4D0E-A219-F5FD3702CF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F87E-9440-41BC-B09F-0B8797854D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EDFD-30E0-4638-874E-59F17E71D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78FF-2EBF-48A4-9FBA-F528819648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C17B-F048-4C86-9827-763EAA95E2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B91B-A93D-4C41-92A8-E74A5ED160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FFD4-9F72-4D8E-BD59-F8F57C4DD3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E00C-135C-48EF-80F3-BA10273FC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77B7-126B-49D7-87FA-5F90C57927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39FA-08FE-43C3-A3EA-89D2C80598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AEC6-250F-444B-BDEC-BBD5584C8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ECCE-4C1C-4F0F-893B-EBF76B4572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A321-A481-46EB-AE09-AF3F33471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B8BA-6429-4379-8A9F-146CEBE67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322E-7848-487E-89D5-76DE1E607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3D9A-DAEA-49BC-B5AE-CB58AA834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77FD-39CA-4954-A416-06865117E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6F0E-1057-4AD9-BC34-15F1BFAED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7959-1D4C-4B73-8932-F2B7DF228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2556-B0B2-4152-9A8A-33317EADB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DADB-CC24-47AF-A798-580D7A9160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0800000">
            <a:off x="-1440" y="2514600"/>
            <a:ext cx="546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– Lesson 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65214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crosoft Office 2003 BASICS                              Pasewark &amp; Pasewar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92B5-E310-47F8-9BCA-46795D8B84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ewark &amp; Pasew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3429000"/>
            <a:ext cx="8281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icrosoft Office 2003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ICROSOFT WORD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5 — Working with Graphic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B6DA-112F-48DC-BBD8-D1D806B4BD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had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a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adding color, grays, or patterns to lines or paragraphs to emphasiz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rmat, Borders/Shading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select the Shading ta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7012-69ED-4B72-B8DA-BC2A64F65B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hading Tab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2240" y="2492280"/>
            <a:ext cx="5226120" cy="38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300C-BC8D-4C34-A75D-68E78B6B48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serting Clip Ar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p ar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graphics that are already drawn and available for use in docu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sert, Picture, ClipArt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lip Art task pane appea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a descriptive word in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earch 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ox, and Word will search for images that match the text you ente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B7C6-0D24-477C-82B7-BD6573FC8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sert Clip Art Task Pan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56236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A2FA-E9C3-4DE0-8B31-467EC5B26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ng Clip Ar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dit clip art, it must be selected. Position the insertion point over the clip art and cli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on rectang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box with eight small squares that appears around the clip art when it is selec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zing hand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squares on the selection rectangle used to adjust the size of the clip 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B043-9A32-4A39-99C1-7CD484056C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on Rectangl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76360" y="2781360"/>
            <a:ext cx="275436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72000" y="324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lection Rectang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6720" y="44737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zing Hand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58920" y="357336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895640" y="4329000"/>
            <a:ext cx="75564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896000" y="4653000"/>
            <a:ext cx="792000" cy="828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1493-C615-4DF9-91A9-66CD271B80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sizing Clip Ar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size clip art, click on the sizing handle and drag it inward or outw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elect Picture, Format, Picture/Graphic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Size Tab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then change dim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B861-C717-4E27-B0C8-5CDFAF41E9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ize Tab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19280" y="2565360"/>
            <a:ext cx="4213440" cy="37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C771-13E6-40D7-8DB9-8C99F80B68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rapp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apping text around clip art saves space and makes the document look more profess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Picture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oos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ayout t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Select the style of wrap you’d like your text to do around your graph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LINE wrapping is still a style of formatting. It just doesn’t give you much control over your picture. (for placeme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8666-51E8-4BFB-9946-0C0D3A150B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Layout Tab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98920" y="2492280"/>
            <a:ext cx="4213080" cy="379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1F04-E92B-47D5-995B-231D8986FD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text into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borders and shading to paragraph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and scale clip 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ap text around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borders to pa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4866-555C-4274-9AA9-287413D36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dding Borders to Pag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Page Border tab in the Borders and Shading dialog box. Choose the setting, line style, width, and color for the bor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rt box has predefined art bord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6029-4A67-4909-8B10-65881FCB4F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ge Border Tab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62240" y="2457360"/>
            <a:ext cx="526248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6774-D844-4CDF-B44F-42AD72239E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rawing Graphic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rawing toolbar contains buttons for drawing and manipulating objects such as lines, arcs, rectangles, circles, and free-form shapes.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View, Toolbars, Draw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s that have been drawn can be resized, cut, and copied. You can also add color and change the line sty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7730-C32F-4992-98C8-FA0E15B80F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rawing Graphic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34920" y="2744640"/>
            <a:ext cx="7812360" cy="31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D5C1-E8D8-4AB7-82E3-53D71E25FD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xt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text to a document by adding a text box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sert, Text Bo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Text Box button on the Drawing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43640" y="479736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3502-5D8C-4E68-9594-45AD137C95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ocuments can be created with multiple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Borders and shading add interest and emphasis to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You can insert clip art and scale it to fit the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You can wrap text around an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CACD-C353-4F11-BF89-60B797B424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Drawing toolbar allows you to draw shapes such as lines, rectangles, and ov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rawing objects can be resized, copied, and move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ext boxes can be created to contain special text for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13EE-B46D-465D-935D-5E2C571E83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w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, resize, cut, copy, and paste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text to drawing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7B97-A589-4723-A09E-5744F1D0A1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s Used in This Less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 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on recta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zing hand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3915-7098-4738-88D2-B114313319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orking with Graphic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pictures that illustrate the meaning of text and make the page more attrac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has predefined pictures and sha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includes drawing tools that enable you to create your own graphics and add them to your docu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33A7-E4D9-4CD4-B4A7-5D35440D69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reating Column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times a document, such as a newsletter, can be more effective if the text is formatted in multiple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elect Text, Format, Colum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Columns button on the Formatting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56360" y="5013360"/>
            <a:ext cx="766800" cy="72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1E28-AF01-463E-A59C-8C54E0BF3A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lumns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932360" cy="39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8FE2-906E-4D5D-9EAA-30912CB431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order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Border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– single, double, thick, or dotted lines that appear around words or paragraphs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rmat, Borders/Shading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Borders tab: places borders around TEXT (paragraph onl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age tab: places border around the whole p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C8A5-FC48-458B-9CAE-2F3693339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orders and Shading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2240" y="2529000"/>
            <a:ext cx="5226120" cy="38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5E96-0AD0-4052-8394-95FEF3E3E6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8:43:46Z</dcterms:created>
  <dc:creator>Pasewark Co.</dc:creator>
  <dc:description/>
  <dc:language>en-US</dc:language>
  <cp:lastModifiedBy>LDSD</cp:lastModifiedBy>
  <dcterms:modified xsi:type="dcterms:W3CDTF">2009-10-19T17:09:31Z</dcterms:modified>
  <cp:revision>104</cp:revision>
  <dc:subject/>
  <dc:title>Microsoft Office XP: Introduc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Virginia Ewbank</vt:lpwstr>
  </property>
</Properties>
</file>